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60B-E721-469C-A204-9EA48539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3A7-2971-4C52-901B-3C64A438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40C-BF8B-474E-9647-B5346826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E9D-B695-4DA1-8734-2B7C8271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4D1-3ACC-49F4-B666-E83E44FD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705-B473-4150-A937-99C5ECD9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4C1-DD70-46D1-A3C0-697C22F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096-A2C4-425A-939E-B92D298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03E-E938-4FAF-8E57-29F4084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DE3-1A18-4EA9-AB36-AAF4BBE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586-1A91-4DF4-9C92-65D98EE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4F0-CC03-4032-8FED-96CA583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A84-074C-487C-B6C4-8BDC8C216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209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ltiplying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ividing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9000" y="1284120"/>
            <a:ext cx="8764560" cy="429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21337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32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105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0958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the two objec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3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58672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19:41Z</dcterms:created>
  <dc:creator>Susannah Graham</dc:creator>
  <dc:description/>
  <dc:language>en-US</dc:language>
  <cp:lastModifiedBy>Graham</cp:lastModifiedBy>
  <dcterms:modified xsi:type="dcterms:W3CDTF">2011-08-18T12:59:10Z</dcterms:modified>
  <cp:revision>3</cp:revision>
  <dc:subject/>
  <dc:title>Lesson 1.9 Multiplying and Dividing Integers</dc:title>
</cp:coreProperties>
</file>